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A675-384B-47BE-82CC-F19C58473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94B3-B4A1-4301-B598-7596627456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312-6D4C-4C74-A01E-2E5E5991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5B0-CF50-4729-8027-F567ED54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FD8FD6-07EF-4606-936B-A1E06DE3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351693-9265-4BE7-AE1E-77B17AB9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1494D7-EFAD-4F04-9DC0-581CBA06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901573-BD92-4EB4-9AA9-25AF85A8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10184C-2633-40A2-A1A4-43DD434C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6DAD5C-C4E9-4020-97DB-248ACCC4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ECE978-83E0-44D0-82C5-80945719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8EBBA7-DC3E-45E3-A7E2-7CDDAF72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CC7AAE-E22E-481A-97E1-FD43CA18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17B-5A33-425C-B9F8-C66FEB9A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6E4-BD86-423C-B6A5-ECB394A3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A1126-C672-4DEE-8AB3-65777BEF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74FED-1CB7-4B06-8FC4-1673D8E6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43A70-FE85-4DBF-A556-20EE3423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3E9FA-24FF-4461-95CE-67BECC27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2C2DA-3A7E-446A-AFBB-BAC8229F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E0AAD-9C96-49A3-95D8-CC279E85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E75BC-0A01-45C4-B968-5CA55241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668-708D-46F0-928C-26821463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984F1-5B07-4CC8-9831-E643FD9D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3471A-7EEB-4E02-9517-0430201F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1CC9F-D503-4784-AEE8-A95496E0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B6C35-9E2B-4254-B0F7-54E34EB6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F1166-0F12-42A9-8B65-F53D3EE4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FA64-5529-4F77-B7A8-14406F28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DC1B-0920-476E-8745-C4C0ED7A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C003-3DEA-4CB3-AF50-F2FC5443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05805-DE5A-4E6D-9313-F7FA29A9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792FF-E664-402C-B48A-31C3EC40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9C2-0E29-4EAE-8E15-464FE39E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FA43-5CDB-4E4E-B272-D10DDEB2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9253F-3D62-4BDA-8CC4-DCB3E28F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0F453-3E19-4CE0-B086-74DFE64D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8390-DF71-4DC3-8B75-ABE7FCCE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312D-27B2-4911-BC5D-2D4AB94D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8EB91-752F-44E1-9FCC-C99DAB23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FF34-450F-4FEB-8AAD-CF265E52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1384DA-784E-4658-BAE9-4F7EC544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2CEF5E-D4E3-4C14-9A36-61FE4893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4F83F-B2E4-484F-9709-6F9DB3AB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C4A-68B8-4AF6-A9D7-7C3A224A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40C265-5B2E-4C39-9BDE-B27C672F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03B8C-9A5C-4965-B79D-2B34775F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4076D-5389-432E-97EE-68C00A41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E50035-76C0-4223-B0BE-34FC764D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531B2-E9ED-4B37-A835-106D45D2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48DC53-9E33-4922-AFD4-D5AC8F11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15226-A521-47F5-8119-FEEDA4EF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9880BE-B6DF-4A48-8722-DD89E820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634354-552C-4411-B765-485D76A3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A2BCD-7A96-48DA-9259-A33F8115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282-19A3-403D-8722-CC048A7A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F5800-D9ED-40BB-B47C-66BF3C59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D1F36-26D9-4B2C-B6DD-DCC0E8C2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3F8B0-CE75-409B-93CA-7530694D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96860-9C4D-44B0-99A4-3EAE5627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B876E-4463-4586-95C0-285956E7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B9556-2D65-4D5F-844C-B20B8C42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D0715-7278-406C-BED8-8F139473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9A55B-76F4-461A-8F62-E8F45031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2A48E-5A22-4E04-8CB5-1C5AF1E0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C3052-8087-4135-811A-9068E05A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658-C055-4A61-81E4-3057B151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6A6A4-F0D0-4E9F-9BCD-C01E188D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A37ED-5CCA-4CDB-B84B-C706E7AF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F0EF5-49BC-49B1-8820-ADF3C24B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E4BA6-98C8-46CB-B8B8-BD5662D9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5623A-E3A6-42DE-A1C9-5925FA4C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5DF65-2E15-4548-8C6E-BB5F5612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B0DB3-BA73-444F-BC24-1F537A48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5490D-D969-46E5-8690-97A200B0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995C3-AEF1-4192-9E10-462FC57A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CAD3E-2E5D-42BA-B727-05229684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124-D63C-4899-A3C0-A3D61CA4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8DB7C-E41B-4A9A-9496-5F31D65A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0C956-0DBB-4FBD-AF94-5A5D44EA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D80FC-6E33-41B6-AEF0-CB49BBB6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6EFB6-89F5-4C19-8C0E-70D35242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596B6-6C7C-4CC1-8FC9-35A9A223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D75F4-567B-46AF-8F7C-E783C31A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5ABC3-BB55-4816-9D7F-5B085F43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06A91-C30D-43AC-B176-513D2693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555DE-E256-4849-A352-EB008003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8CC2A-9C8F-43EC-A5C0-654F0274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382-C80A-498E-B870-476817B8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864D2-C7A7-43B9-B741-A8F7BA0E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9D2E5-DA4C-4B36-806C-ADA486D0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3A720-EDA5-489C-BCD1-52BA4EE0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C74F4-2708-4A49-914F-A01113B4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4559C-542E-4035-8CAA-8548CBAF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1DF5D5-D4EA-4C81-AE28-2EB42CDA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385A5D-176D-4838-AECE-77EE90FF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38D8DB-A554-46A7-9F50-D6400EBA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EAE74F-01E9-4EF7-AC42-B0643451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CD9BF9-C14C-437A-99AE-ED04DEE6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72F-D92D-40C3-A909-6693D5C5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581A45-68F5-475D-B6A5-8446EAD5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AAFCDB-C6A7-49C7-B5C2-E67CD926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74E607-9499-4B8C-B3C4-FECA4A50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1BE4F4-652A-4CC0-BC05-6D6E018E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1B20E5-231C-4F5C-A8EE-73D5A91C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95394-BBAC-45F4-98EF-7813989E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20F771-E7DC-47A7-B885-651B1098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46AD0-A8F2-482C-B56B-827C3CF1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49B46C-9A1D-4743-AB99-F4F32B58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8DD58-D05B-4A02-BD02-B33899DA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71360" y="152280"/>
            <a:ext cx="9813960" cy="7315200"/>
            <a:chOff x="171360" y="152280"/>
            <a:chExt cx="9813960" cy="73152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81396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434880" y="415800"/>
              <a:ext cx="9285480" cy="67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439640" y="7112160"/>
            <a:ext cx="46796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6179760" y="71121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9599760" y="7238520"/>
            <a:ext cx="5140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8D4D-6333-429A-AC48-0D16A3D3EC97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71360" y="152280"/>
            <a:ext cx="9820440" cy="2803680"/>
            <a:chOff x="171360" y="152280"/>
            <a:chExt cx="9820440" cy="280368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820440" cy="28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79360" y="258840"/>
              <a:ext cx="960120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179760" y="72327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9599760" y="7232760"/>
            <a:ext cx="51408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37B4-2238-428C-A391-E5DBBE5F3D53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778040" y="7232760"/>
            <a:ext cx="434160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71360" y="152280"/>
            <a:ext cx="9813960" cy="7315200"/>
            <a:chOff x="171360" y="152280"/>
            <a:chExt cx="9813960" cy="73152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81396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34880" y="415800"/>
              <a:ext cx="9285480" cy="67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654120" y="1582560"/>
            <a:ext cx="888984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41040" bIns="-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179760" y="71121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439640" y="7112160"/>
            <a:ext cx="46796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9599760" y="7238520"/>
            <a:ext cx="5140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70C4-C2A1-4BB5-A457-2CD16809A08A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111320" y="3630600"/>
            <a:ext cx="82296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41400" bIns="-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179760" y="7237080"/>
            <a:ext cx="333684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9599760" y="7237080"/>
            <a:ext cx="5140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36F0-DA90-4C8A-8843-D1AFE5B25E58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778040" y="7237080"/>
            <a:ext cx="434160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71360" y="152280"/>
            <a:ext cx="9813960" cy="7315200"/>
            <a:chOff x="171360" y="152280"/>
            <a:chExt cx="9813960" cy="73152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81396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34880" y="415800"/>
              <a:ext cx="9285480" cy="67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654120" y="1582560"/>
            <a:ext cx="888984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41040" bIns="-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179760" y="71121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439640" y="7112160"/>
            <a:ext cx="46796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9600840" y="7238520"/>
            <a:ext cx="5158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974D-328B-407D-95FB-094B8E41B1AC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71360" y="152280"/>
            <a:ext cx="9813960" cy="7315200"/>
            <a:chOff x="171360" y="152280"/>
            <a:chExt cx="9813960" cy="73152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81396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4880" y="415800"/>
              <a:ext cx="9285480" cy="67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85800" y="2405160"/>
            <a:ext cx="416556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39600" bIns="-396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5334120" y="2405160"/>
            <a:ext cx="416556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39600" bIns="-396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9760" y="71121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439640" y="7112160"/>
            <a:ext cx="46796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9600840" y="7238520"/>
            <a:ext cx="5158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2597-18FF-4824-B0C5-83282D4B843B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71360" y="152280"/>
            <a:ext cx="9813960" cy="7315200"/>
            <a:chOff x="171360" y="152280"/>
            <a:chExt cx="9813960" cy="73152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81396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34880" y="415800"/>
              <a:ext cx="9285480" cy="67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654120" y="1582560"/>
            <a:ext cx="888984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41040" bIns="-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179760" y="71121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439640" y="7112160"/>
            <a:ext cx="46796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9599760" y="7238520"/>
            <a:ext cx="5140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3303-1698-452A-AC1D-50072B2AA8A7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619600" y="1174680"/>
            <a:ext cx="416592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6179760" y="7237080"/>
            <a:ext cx="333684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9599760" y="7237080"/>
            <a:ext cx="5140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3252-7920-4F50-AC32-4096C91586E1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778040" y="7237080"/>
            <a:ext cx="434160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179760" y="72327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9599760" y="7232760"/>
            <a:ext cx="51408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90E6-ECD2-4165-9C33-0DB52BAF7AE1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778040" y="7232760"/>
            <a:ext cx="434160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1" descr=""/>
          <p:cNvPicPr/>
          <p:nvPr/>
        </p:nvPicPr>
        <p:blipFill>
          <a:blip r:embed="rId1"/>
          <a:stretch/>
        </p:blipFill>
        <p:spPr>
          <a:xfrm>
            <a:off x="122400" y="401760"/>
            <a:ext cx="9509040" cy="17985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327480" y="6477120"/>
            <a:ext cx="661824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yce P. Rishi S. Jay S.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3" name="Picture 2" descr="http://t1.gstatic.com/images?q=tbn:ANd9GcRcFWhsUzEe0ComU4uIM2Bnx_S9NJLECyeJUjf62j1JiDmhl9kl5Q"/>
          <p:cNvPicPr/>
          <p:nvPr/>
        </p:nvPicPr>
        <p:blipFill>
          <a:blip r:embed="rId2"/>
          <a:stretch/>
        </p:blipFill>
        <p:spPr>
          <a:xfrm>
            <a:off x="2413080" y="2971800"/>
            <a:ext cx="439560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1" descr=""/>
          <p:cNvPicPr/>
          <p:nvPr/>
        </p:nvPicPr>
        <p:blipFill>
          <a:blip r:embed="rId1"/>
          <a:stretch/>
        </p:blipFill>
        <p:spPr>
          <a:xfrm>
            <a:off x="55440" y="-23760"/>
            <a:ext cx="9601200" cy="1584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TextBox 1"/>
          <p:cNvSpPr/>
          <p:nvPr/>
        </p:nvSpPr>
        <p:spPr>
          <a:xfrm>
            <a:off x="279360" y="1600200"/>
            <a:ext cx="9601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 Healthy Type 2 Diabetes Diet: Carbohydrates, Fiber, Salt and Fat."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MD Diabetes Center: Types, Causes, Symptoms, Tests, and Treat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.p., n.d. Web. 31 Aug. 2011. &lt;http://diabetes.webmd.com/eating-right&gt;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Exercising With Type 2 Diabetes: Benefits &amp; Guidelines."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MD Diabetes Center: Types, Causes, Symptoms, Tests, and Treat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.p., n.d. Web. 31 Aug. 2011. &lt;http://diabetes.webmd.com/guide/exercise-guidelines&gt;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ATA, GINA. "Type 2 Diabetes - Symptoms, Diagnosis, Treatment of Type 2 Diabetes - NY Times Health Information ."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lth News - The New York Ti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.p., n.d. Web. 31 Aug. 2011. &lt;http://health.nytimes.com/health/guides/disease/type-2-diabetes/overview.html&gt;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ral Diabetes Pills: Sulfonylureas, Biguanides, and More.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MD Diabetes Center: Types, Causes, Symptoms, Tests, and Treat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.p., n.d. Web. 31 Aug. 2011. &lt;http://diabetes.webmd.com/guide/oral-medicine-pills-treat-diabetes&gt;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Helping a Family Member Who Has Diabetes -- familydoctor.org.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information for the whole family -- familydoctor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.p., n.d. Web. 2 Sept. 2011. &lt;http://familydoctor.org/online/famdocen/home/common/diabetes/living/353.html#ArticleParsysMiddleColumn0003&gt;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Effects Of Type 2 Diabetes On A Family | LIVESTRONG.COM.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RONG.COM - Lose Weight &amp; Get Fit with Diet, Nutrition &amp; Fitness Too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.p., n.d. Web. 2 Sept. 2011. &lt;http://www.livestrong.com/article/222477-effects-of-type-2-diabetes-on-a-family/&gt;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Hilborn, Michael, Mary Bronson Merki, and Don Merki.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</a:rPr>
              <a:t>Glencoe health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. Toronto: McGraw-Hill Ryerson, 2004. Prin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1" name="Rectangle 1" descr=""/>
          <p:cNvPicPr/>
          <p:nvPr/>
        </p:nvPicPr>
        <p:blipFill>
          <a:blip r:embed="rId1"/>
          <a:stretch/>
        </p:blipFill>
        <p:spPr>
          <a:xfrm>
            <a:off x="55440" y="-23760"/>
            <a:ext cx="960120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1" descr=""/>
          <p:cNvPicPr/>
          <p:nvPr/>
        </p:nvPicPr>
        <p:blipFill>
          <a:blip r:embed="rId1"/>
          <a:stretch/>
        </p:blipFill>
        <p:spPr>
          <a:xfrm>
            <a:off x="-36360" y="128520"/>
            <a:ext cx="10075680" cy="14810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is a disease that occurs when a person's body does not make enough insulin or, can't use insulin properly. It is mostly a lifestyle disease for people that are obese. It also can be hereditary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6" name="Picture 4" descr="http://jdca2025.files.wordpress.com/2011/08/diabetes-main_full.jpg"/>
          <p:cNvPicPr/>
          <p:nvPr/>
        </p:nvPicPr>
        <p:blipFill>
          <a:blip r:embed="rId2"/>
          <a:stretch/>
        </p:blipFill>
        <p:spPr>
          <a:xfrm>
            <a:off x="6375240" y="4952880"/>
            <a:ext cx="3581640" cy="238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1" descr=""/>
          <p:cNvPicPr/>
          <p:nvPr/>
        </p:nvPicPr>
        <p:blipFill>
          <a:blip r:embed="rId1"/>
          <a:stretch/>
        </p:blipFill>
        <p:spPr>
          <a:xfrm>
            <a:off x="-66600" y="249120"/>
            <a:ext cx="10333080" cy="17384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started in the first century, in Greek. It was because of frequent urination by people, It turns out the cause of the frequent urination was Diabetes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9" name="Picture 2" descr="http://t2.gstatic.com/images?q=tbn:ANd9GcQ-Z8V2mskQ8wXWRHlIGTRCMKqweSG-z-wGzMt4mdiWsaH4hSW71g"/>
          <p:cNvPicPr/>
          <p:nvPr/>
        </p:nvPicPr>
        <p:blipFill>
          <a:blip r:embed="rId2"/>
          <a:stretch/>
        </p:blipFill>
        <p:spPr>
          <a:xfrm>
            <a:off x="4013280" y="4495680"/>
            <a:ext cx="18288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1" descr=""/>
          <p:cNvPicPr/>
          <p:nvPr/>
        </p:nvPicPr>
        <p:blipFill>
          <a:blip r:embed="rId1"/>
          <a:stretch/>
        </p:blipFill>
        <p:spPr>
          <a:xfrm>
            <a:off x="-6480" y="73080"/>
            <a:ext cx="10120320" cy="12556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hydration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loss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usea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rred vision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t Urination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fections than usual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2" name="Picture 3" descr="dehydration.gif"/>
          <p:cNvPicPr/>
          <p:nvPr/>
        </p:nvPicPr>
        <p:blipFill>
          <a:blip r:embed="rId2"/>
          <a:stretch/>
        </p:blipFill>
        <p:spPr>
          <a:xfrm>
            <a:off x="5384880" y="1981080"/>
            <a:ext cx="3986280" cy="300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1" descr=""/>
          <p:cNvPicPr/>
          <p:nvPr/>
        </p:nvPicPr>
        <p:blipFill>
          <a:blip r:embed="rId1"/>
          <a:stretch/>
        </p:blipFill>
        <p:spPr>
          <a:xfrm>
            <a:off x="92160" y="96840"/>
            <a:ext cx="9947160" cy="14572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11040" indent="-31104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term- You must manage diet, exercise, take medication, use some of insulin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311040" indent="-311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311040" indent="-31104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term- Maintain proper circulation, manage stress, also exercise and eat right as well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311040" indent="-311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311040" indent="-31104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response/effect- It creates a lot of stress for your family member. You should help your family member change their diet and be sympathetic towards them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1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10120320" cy="12495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blood sugar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medicines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 and eat right. 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 no other treatment for diabetes. 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7" name="Picture 2" descr="http://info.inter-spas.com/Portals/102385/images/tread.gif"/>
          <p:cNvPicPr/>
          <p:nvPr/>
        </p:nvPicPr>
        <p:blipFill>
          <a:blip r:embed="rId2"/>
          <a:stretch/>
        </p:blipFill>
        <p:spPr>
          <a:xfrm>
            <a:off x="6026040" y="-304920"/>
            <a:ext cx="413388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1" descr=""/>
          <p:cNvPicPr/>
          <p:nvPr/>
        </p:nvPicPr>
        <p:blipFill>
          <a:blip r:embed="rId1"/>
          <a:stretch/>
        </p:blipFill>
        <p:spPr>
          <a:xfrm>
            <a:off x="55440" y="73080"/>
            <a:ext cx="10125360" cy="12556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146160" y="1752480"/>
            <a:ext cx="9548640" cy="53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 a total of 25.8 million children and adults with diabetes in the US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0" name="Picture 2" descr="http://www.nichd.nih.gov/research/supported/images/skd238517sdc.jpg"/>
          <p:cNvPicPr/>
          <p:nvPr/>
        </p:nvPicPr>
        <p:blipFill>
          <a:blip r:embed="rId2"/>
          <a:stretch/>
        </p:blipFill>
        <p:spPr>
          <a:xfrm>
            <a:off x="2793960" y="3200400"/>
            <a:ext cx="27432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279360" y="1676520"/>
            <a:ext cx="946008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6 million Dollars is directed to the medical cost for diabetes type 2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2" name="Rectangle 1" descr=""/>
          <p:cNvPicPr/>
          <p:nvPr/>
        </p:nvPicPr>
        <p:blipFill>
          <a:blip r:embed="rId1"/>
          <a:stretch/>
        </p:blipFill>
        <p:spPr>
          <a:xfrm>
            <a:off x="55440" y="73080"/>
            <a:ext cx="10125360" cy="1255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mindmillion.com/images/money/01-large-cartoon-cash.gif"/>
          <p:cNvPicPr/>
          <p:nvPr/>
        </p:nvPicPr>
        <p:blipFill>
          <a:blip r:embed="rId2"/>
          <a:stretch/>
        </p:blipFill>
        <p:spPr>
          <a:xfrm>
            <a:off x="2336760" y="3124080"/>
            <a:ext cx="3581280" cy="365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202680" y="1599840"/>
            <a:ext cx="9502920" cy="55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type 2 is the most common out of type 1 Diabetes and type 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5" name="Rectangle 1" descr=""/>
          <p:cNvPicPr/>
          <p:nvPr/>
        </p:nvPicPr>
        <p:blipFill>
          <a:blip r:embed="rId1"/>
          <a:stretch/>
        </p:blipFill>
        <p:spPr>
          <a:xfrm>
            <a:off x="55440" y="73080"/>
            <a:ext cx="10125360" cy="1255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http://images.meredith.com/dlv/images/2008/12/ss_01.jpg"/>
          <p:cNvPicPr/>
          <p:nvPr/>
        </p:nvPicPr>
        <p:blipFill>
          <a:blip r:embed="rId2"/>
          <a:stretch/>
        </p:blipFill>
        <p:spPr>
          <a:xfrm>
            <a:off x="3022560" y="2971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sharma</cp:lastModifiedBy>
  <dcterms:modified xsi:type="dcterms:W3CDTF">2011-09-03T14:19:07Z</dcterms:modified>
  <cp:revision>9</cp:revision>
  <dc:subject/>
  <dc:title>PowerPoint Presentation</dc:title>
</cp:coreProperties>
</file>